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619A-B54C-4CDA-BEDF-F9BC30AB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3A1D-66EA-4E83-8A68-58BD51D6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5296-C79C-40F2-BEB3-2084AD35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F29D-A606-412F-B8F8-28F4756E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248A-FC12-4030-9719-9F1C4D59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47F9-3365-4783-BACA-1C9ABDB6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D500-117B-4A17-99A1-9BCFF9ED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0049-DB78-46DD-ABA5-5CFF56DD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53B7-DDEA-4FA0-8897-5AA62152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0401-86D7-44D0-A9BC-8213D532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3CBF-76A3-40E4-8A0D-AA596EF1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D64A-00C9-42C4-B8D7-5726BA74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116F-04A3-43A5-96D0-C4050F1B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E146-68C6-405F-8FA1-DF0556F7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E266-F092-4AC1-B6BE-7B13B5D6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0048-4BF0-47E4-92CF-050CE21F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1097-67A7-45E2-BF1A-1F8926CE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2F237-38A7-4F5B-8E9B-8915F800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72DF0-EA58-4273-B0B9-7A44EB3E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81C2D-6597-4E0E-B7EB-D0A50635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48A02-F842-4D6B-99BD-48300180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66AF4-BEC1-48B3-9C48-683FAA07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FEC8-B876-4D5C-B8DF-25C7BCAD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E5332-AA56-4980-8EE8-A58801C7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A2BDF-FFD1-4266-8D04-49BC2D08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B7BEF-FB3B-46FF-8DF8-32C8C07F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2F3FB-BCFC-4E5E-95E9-3952436E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90B28-565F-4DC8-9FAB-33520F4C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0F831-9BE5-4FEE-B4E0-3DDF897D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748F2-E664-40C0-BA4A-7C3A324D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E8AF1-7D60-4C75-B902-6C9B2AA1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540CC-C718-4A7A-8AAC-5B49E9FE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25B06-869E-43D3-8AD3-AB287C66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C78E-F24F-40BF-B3AF-04BD02E3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E9492-E710-45AA-8316-BBF67BE2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516DD-8973-4754-B7EB-70AD9A5D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281F7-0502-42A7-8F5F-212CEEB7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1DB8C-6602-41D3-8FA4-6F5D5F6B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D0DAE-7FD3-47DC-998E-57652095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4A93C-4A58-4769-A0F3-AB7A582E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0586B-48B8-43CD-AC80-55DE464C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207D8-C0E5-476B-984A-A6DF3CE9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019C5-F695-48F2-B7F6-BFC88741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35F6B-AA83-4A94-96B2-2892D9FE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36E5-ECFD-44D2-AE5C-BAF5FBDE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0FB53-A8DC-4F4D-9149-C37D440C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D5B96-BE49-4435-9FEC-71B0431C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A3B79-E7F7-44C3-89E7-B51ED57F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6095A-FD43-4AF1-B154-835E2778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9EDE0-9A72-4B7E-B28C-9C01741C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34F2F-61E9-4448-B986-2D9A6587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0591B-69D0-4AA9-9D7C-C2459E81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097BC-00EB-4B2F-953A-4C1D1FE6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D5F12-4289-4D48-81D0-60274EA5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347AE-AAB9-46BE-9CC5-D3250500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6DD0-3FEE-4A93-AEBA-D83AA25A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28616-ACB1-4219-B4E3-022DD5A3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F4786-31FF-48EA-8490-AAB45033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7A584-822A-4B86-A8E7-966D1374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64978-8832-42A9-926A-CF85AE2A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D9D65-91CE-4B5E-8FB4-9E33AF1B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85E93-78A7-455F-B89A-3F14E239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56A80-C572-4720-B99E-60CDC792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AD7F6-A373-44FE-BB96-133197A3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58D5C-2CEB-451C-BEF8-503F69F1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35530-22DA-460B-BF0A-D944F055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2DB4-7041-499F-9519-EFE9EA6E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91A9A-FBC8-4441-85E9-12F6C59E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9F2B7-B47B-45DD-B6C3-2A93CA01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35AED-3A8C-4D6E-B8DF-5E6594A7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CDEC4-B7D6-49A5-BE77-628AD72C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8F57D-3290-4DE5-AB99-F1732351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1B503-2DD8-47CA-BF3D-6C6526B8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C0C46-FFDB-47E9-9231-25C5899A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8BA28-F3A2-451B-A587-EAFAE521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E36F6-B6D1-4478-B4EA-1F25AA58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867FB-5D0C-4927-9B65-E948A6F1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AF21-5437-4091-938A-E6246A83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319FA-1DA6-4FAD-B555-5C4089C8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50E16-B07A-43DE-B20F-F795A973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F0214-F9E3-4BDA-9B57-CC8C4459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07D3F-43CA-4756-80F4-4E29065F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48C9D-CCA6-4066-B5B0-B861A6E5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528B-DE2C-4D61-9E67-D9613FA7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EA9230-EA95-4818-B4C9-792BAF45266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BAF65A-4157-4F6B-B9D1-6894C8C7EA97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F9C3E-6E42-489B-AA83-63E595FB4A1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18E16E-E47D-40E0-A6C4-9654A8794FD4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EC9DC7-3921-4858-B42E-BE5B35D419AC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5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6FEFF-0B18-46A4-B4ED-9CEBDD4EB49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94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0B420-3860-4A64-A45B-AC0C800F75E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image" Target="../media/image24.png"/><Relationship Id="rId15" Type="http://schemas.openxmlformats.org/officeDocument/2006/relationships/image" Target="../media/image24.png"/><Relationship Id="rId16" Type="http://schemas.openxmlformats.org/officeDocument/2006/relationships/image" Target="../media/image24.png"/><Relationship Id="rId17" Type="http://schemas.openxmlformats.org/officeDocument/2006/relationships/image" Target="../media/image24.png"/><Relationship Id="rId18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74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278920" cy="18414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http://www.right2write.co.uk/Images/OCR_logo.gif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6715080" y="5423040"/>
            <a:ext cx="2428920" cy="1434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Ghealthbenefits.wmv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15200" y="5429160"/>
            <a:ext cx="831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3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-128520"/>
            <a:ext cx="8242560" cy="933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152280" y="798480"/>
            <a:ext cx="6019920" cy="60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7dd"/>
                </a:solidFill>
                <a:latin typeface="Arial"/>
              </a:rPr>
              <a:t>Po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V b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ss high choleste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scle hypertro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steopor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veo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rength res mus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Socia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Fu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Stress releas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Moral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Disciplin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Communication / team work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Content Placeholder 2"/>
          <p:cNvSpPr/>
          <p:nvPr/>
        </p:nvSpPr>
        <p:spPr>
          <a:xfrm>
            <a:off x="4724280" y="228600"/>
            <a:ext cx="4419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7dd"/>
                </a:solidFill>
                <a:latin typeface="Century Gothic"/>
              </a:rPr>
              <a:t>Negat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Immune system – open windo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Injuries – cruci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arthrit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6"/>
          <p:cNvSpPr/>
          <p:nvPr/>
        </p:nvSpPr>
        <p:spPr>
          <a:xfrm>
            <a:off x="5008320" y="4711680"/>
            <a:ext cx="2837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b46d0"/>
                </a:solidFill>
                <a:latin typeface="Century Gothic"/>
              </a:rPr>
              <a:t>Band one 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450720" y="2425680"/>
            <a:ext cx="8407440" cy="1494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http://www.right2write.co.uk/Images/OCR_logo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669000" y="5396040"/>
            <a:ext cx="2475000" cy="14619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541440" y="1963800"/>
            <a:ext cx="806112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Gstrengths.wmv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15200" y="5429160"/>
            <a:ext cx="831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0720" y="7308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2286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peed + acceleration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f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fflining ball/timing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t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otwork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sk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rking the bal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sk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lanc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f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-offering – changing direc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sk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gility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f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unication skill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t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tting up a zon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t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TextBox 4" descr=""/>
          <p:cNvPicPr/>
          <p:nvPr/>
        </p:nvPicPr>
        <p:blipFill>
          <a:blip r:embed="rId11"/>
          <a:stretch/>
        </p:blipFill>
        <p:spPr>
          <a:xfrm>
            <a:off x="4730760" y="371520"/>
            <a:ext cx="3133800" cy="1292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541440" y="1963800"/>
            <a:ext cx="806112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gweaknesses.wmv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15200" y="5429160"/>
            <a:ext cx="831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48805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" dur="1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0796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tac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patial awarenes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t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ee play ball/catching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sk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centra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t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nd eye co-ordina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f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oke line on C pas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t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or reaction time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f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amina making easier to scor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f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ocking skill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sk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est pass no power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sk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TextBox 3" descr=""/>
          <p:cNvPicPr/>
          <p:nvPr/>
        </p:nvPicPr>
        <p:blipFill>
          <a:blip r:embed="rId12"/>
          <a:stretch/>
        </p:blipFill>
        <p:spPr>
          <a:xfrm>
            <a:off x="4809960" y="139680"/>
            <a:ext cx="3133800" cy="1292400"/>
          </a:xfrm>
          <a:prstGeom prst="rect">
            <a:avLst/>
          </a:prstGeom>
          <a:ln w="0">
            <a:noFill/>
          </a:ln>
        </p:spPr>
      </p:pic>
      <p:pic>
        <p:nvPicPr>
          <p:cNvPr id="390" name="TextBox 4" descr=""/>
          <p:cNvPicPr/>
          <p:nvPr/>
        </p:nvPicPr>
        <p:blipFill>
          <a:blip r:embed="rId13"/>
          <a:stretch/>
        </p:blipFill>
        <p:spPr>
          <a:xfrm>
            <a:off x="3090960" y="981000"/>
            <a:ext cx="6156360" cy="1292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541440" y="1963800"/>
            <a:ext cx="806112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GActionplan.wmv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15200" y="5429160"/>
            <a:ext cx="831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1" dur="1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10065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152280" y="7617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7dd"/>
                </a:solidFill>
                <a:latin typeface="Arial"/>
              </a:rPr>
              <a:t>Goal: 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Power and consistency of chest pa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7dd"/>
                </a:solidFill>
                <a:latin typeface="Arial"/>
              </a:rPr>
              <a:t>Timescale: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4w of 3 x 30 min session per wee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7dd"/>
                </a:solidFill>
                <a:latin typeface="Arial"/>
              </a:rPr>
              <a:t>Coaching Points: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W.  Body weight, ball rotation, transfer of weight, extend arms,1 foot in front of ot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7dd"/>
                </a:solidFill>
                <a:latin typeface="Arial"/>
              </a:rPr>
              <a:t>Drills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 on 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irs moving arms as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ving footwork dr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riving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x 2  10 p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 x 3  10 pass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ll cou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 + post testing/perce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TextBox 3" descr=""/>
          <p:cNvPicPr/>
          <p:nvPr/>
        </p:nvPicPr>
        <p:blipFill>
          <a:blip r:embed="rId6"/>
          <a:stretch/>
        </p:blipFill>
        <p:spPr>
          <a:xfrm>
            <a:off x="4919760" y="2882880"/>
            <a:ext cx="3840120" cy="1292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Glocalandnational.wmv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15200" y="5429160"/>
            <a:ext cx="831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-128520"/>
            <a:ext cx="8259840" cy="9334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798120"/>
            <a:ext cx="822960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SFC competitions n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ldham sports cent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ldham Club – good coach/com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W high perf – advanced skills/abilities.  Onto England.  Long and short squad.  Intern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inance – car wash, bagging, sponso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TextBox 3" descr=""/>
          <p:cNvPicPr/>
          <p:nvPr/>
        </p:nvPicPr>
        <p:blipFill>
          <a:blip r:embed="rId8"/>
          <a:stretch/>
        </p:blipFill>
        <p:spPr>
          <a:xfrm>
            <a:off x="4505400" y="4863960"/>
            <a:ext cx="3803400" cy="1292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20:06:28Z</dcterms:created>
  <dc:creator>Scott  Chapman</dc:creator>
  <dc:description/>
  <dc:language>en-US</dc:language>
  <cp:lastModifiedBy>harria</cp:lastModifiedBy>
  <dcterms:modified xsi:type="dcterms:W3CDTF">2009-08-12T13:52:29Z</dcterms:modified>
  <cp:revision>13</cp:revision>
  <dc:subject/>
  <dc:title>G452 AS Practical EPIP</dc:title>
</cp:coreProperties>
</file>