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5B76-7A69-4853-A75A-6EF030561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87854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882240"/>
            <a:ext cx="87854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F160-027E-4443-9D9F-42ACA0E6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88224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88224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5E45-F5C1-42CD-AFBD-CD1E4E8C2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143820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143820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88224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88224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88224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08B7-1C31-4868-9422-CC6104BD8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1438200"/>
            <a:ext cx="8785440" cy="46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B6D5-A9DB-401F-8F6D-45C5F721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87854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7815-7229-4CD2-B42C-FCA5B4DC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42872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438200"/>
            <a:ext cx="42872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D6E3-08A3-43D1-820C-710625B9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812B-F027-4FEC-88D4-A5CA13BA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78920"/>
            <a:ext cx="878544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85CA-A9C7-4C66-BB12-74BEB052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438200"/>
            <a:ext cx="42872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88224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C42A-F35C-4740-BC40-4900F6E0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42872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88224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DEA1-BC6E-49DD-B06F-2BB389E8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882240"/>
            <a:ext cx="87854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4C45-1FBC-4943-8B0D-5F5B99F1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1438200"/>
            <a:ext cx="87854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9280" y="6318000"/>
            <a:ext cx="215928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84D0-1FA8-4664-8C5C-0BFE04EE5F79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58920" y="6318000"/>
            <a:ext cx="287964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7120" y="6297480"/>
            <a:ext cx="21589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5A7F-703D-4588-AEEF-D0877358C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OOR PENTATHLON COMPETI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177336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TURDAY JULY 2 at 2:30 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MAWR FITNESS CLU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9:14:43Z</dcterms:created>
  <dc:creator/>
  <dc:description/>
  <dc:language>en-US</dc:language>
  <cp:lastModifiedBy/>
  <dcterms:modified xsi:type="dcterms:W3CDTF">2010-10-06T08:41:22Z</dcterms:modified>
  <cp:revision>10</cp:revision>
  <dc:subject/>
  <dc:title>INDOOR PENTATHLON COMPETITION</dc:title>
</cp:coreProperties>
</file>