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4D7-3C21-4103-A17F-FFE9954D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528-6913-4F76-B1BF-29F3E0C5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DE1-B36D-4611-8D48-C551F5F5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943-9367-4522-A03F-ACD0AD37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248-FBDF-42F5-9D01-DA1C1B7C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748-E0C2-45AB-9586-E56BCEBC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BAF-03D9-41BB-B48C-E1174881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030-341D-49D1-A10C-D210F57E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78920"/>
            <a:ext cx="87854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341-BC75-45E7-BFDF-A0D8704F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961-0E1C-4154-A409-E32A99E1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629-53BF-47E2-A502-02F52333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287-5927-4A63-A3E3-DC461B19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18000"/>
            <a:ext cx="215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184E-81D4-4E3E-BCAF-D696D6DE573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318000"/>
            <a:ext cx="2879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7120" y="6297480"/>
            <a:ext cx="215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27E6-47C2-400F-87E5-2BC4427B9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OOR PENTATHLON COMPETI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DAY JULY 2 at 2:30 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MAWR FITNESS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9:14:43Z</dcterms:created>
  <dc:creator/>
  <dc:description/>
  <dc:language>en-US</dc:language>
  <cp:lastModifiedBy/>
  <dcterms:modified xsi:type="dcterms:W3CDTF">2010-10-06T08:41:22Z</dcterms:modified>
  <cp:revision>10</cp:revision>
  <dc:subject/>
  <dc:title>INDOOR PENTATHLON COMPETITION</dc:title>
</cp:coreProperties>
</file>