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C358-FF77-476B-AD40-67FFC15B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BEA4-5BE9-4891-BDDF-BCA14511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8FE3-CAC5-4320-AA1F-A6DEAE1A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E63C-09E9-4113-93A0-05B459FF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3DA7-5C5E-4D5E-877B-13646A06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379F-0FD5-449C-A812-F757AA66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719C-EA6D-49BD-90FA-5748906E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14C8-55D8-49E2-9AC6-816E788B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7983-C879-490E-ACDA-D3113775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7F45-935A-4180-8145-4DCDE256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F53A-6177-4AEE-92B2-47026F28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71AA-4BB4-4F02-B0C9-97FFDFFE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rush Script MT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C0F6-9397-4C2F-8344-177A0622ADB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99"/>
                </a:solidFill>
                <a:latin typeface="Brush Script MT"/>
              </a:rPr>
              <a:t>Tour of Yorkshire</a:t>
            </a: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Brush Script MT"/>
              </a:rPr>
              <a:t>7 – 12 July 2014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68360" y="6021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Brush Script MT"/>
              </a:rPr>
              <a:t>PMMM Cycles Lt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10:04:06Z</dcterms:created>
  <dc:creator/>
  <dc:description/>
  <dc:language>en-US</dc:language>
  <cp:lastModifiedBy/>
  <dcterms:modified xsi:type="dcterms:W3CDTF">2014-03-13T09:52:23Z</dcterms:modified>
  <cp:revision>1</cp:revision>
  <dc:subject/>
  <dc:title/>
</cp:coreProperties>
</file>